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5FE-CA82-46D0-9401-AD541A36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A43-8D74-4AA4-92DA-ED0FB8BC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4DEC-3FCA-4FD0-8346-3AFAE8A2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B8A-5A21-45F5-ABE3-54933903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9529-5D5D-489B-A6DD-1A2C0F98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5D8-C7AE-4F5D-8CA6-C70C77AC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C927-2F47-4628-84B7-FFB51993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18BE-3698-4690-8954-157D8797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2FFA-EF24-4A9E-9124-E187FD92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B503-1503-4FD2-A51D-35A181CE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B50F-E3CB-43BB-AA3D-85A4A40C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5B52-5A7F-4C15-9B85-1182C252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F42A-877B-4C8C-916E-0430703A1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BRSO040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304920"/>
            <a:ext cx="358164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ٌ تعالى وأشاعَ الر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ضياءُ السلامِ من المهدِ 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جندُ السماءِ ظهروا في العل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ِرُعاةٍ حيارى بُهِروا بالضِّي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BRSO025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57800" y="304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304920"/>
            <a:ext cx="388620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لأرضِ جاءْ نبعُ الر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من بيتَ لحمَ قد جاءَ النِّد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نجمٌ منير قد قاد المجو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طفلٌ صغيرٌ له نحني الرؤ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NBRSO040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81480" y="304920"/>
            <a:ext cx="358164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ٌ تعالى وأشاعَ الر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ضياءُ السلامِ من المهدِ 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جندُ السماءِ ظهروا في العل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ِرُعاةٍ حيارى بُهِروا بالضِّي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NBRSO021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62720" y="380880"/>
            <a:ext cx="3581280" cy="42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ffcc"/>
                </a:solidFill>
                <a:latin typeface="Times New Roman"/>
                <a:cs typeface="Arabic Transparent"/>
              </a:rPr>
              <a:t>للهِ مجد للكونِ سل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ffcc"/>
                </a:solidFill>
                <a:latin typeface="Times New Roman"/>
                <a:cs typeface="Arabic Transparent"/>
              </a:rPr>
              <a:t>سرورٌ خيرٌ حبْ ووِئ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ffcc"/>
                </a:solidFill>
                <a:latin typeface="Times New Roman"/>
                <a:cs typeface="Times New Roman"/>
              </a:rPr>
              <a:t>نورٌ مُشِع في وَسطِ الظل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8:57:01Z</dcterms:created>
  <dc:creator>SUZANNE.MD</dc:creator>
  <dc:description/>
  <dc:language>en-US</dc:language>
  <cp:lastModifiedBy>USER</cp:lastModifiedBy>
  <dcterms:modified xsi:type="dcterms:W3CDTF">2002-12-23T19:53:44Z</dcterms:modified>
  <cp:revision>2</cp:revision>
  <dc:subject/>
  <dc:title>PowerPoint Presentation</dc:title>
</cp:coreProperties>
</file>